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1.jpeg" ContentType="image/jpeg"/>
  <Override PartName="/ppt/media/image6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4.jpeg" ContentType="image/jpeg"/>
  <Override PartName="/ppt/media/image49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ACC-DD20-4960-9ADA-1AA36667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225-BEF7-4999-8BF5-5706CFC3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EC2-2802-4CFA-B405-D6994DB7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699-EE5E-4BD6-86BC-B7743BE3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0F9-73DB-4CCD-BB73-CB4D2F4E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422-8FA0-489F-A827-9C4B234A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9AD-0F55-4F37-A2A6-FE4952C4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4E3-7B3A-471A-82AA-B8D59F90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D2D-9E79-4A7A-A594-FA9E4EF9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59A-72C2-404C-8DED-962129BD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14A-480E-4215-A902-AE924AA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C87-B6D6-45D5-BC0A-154EAEB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99A2-59C7-4FC9-9833-2CCC6A65CC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Болести везивног тки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PUS ERYTHEMAT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е варијант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LE tumidus: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едем и инфилтрација плоче (нема атрофије и сквам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LE chronicus disseminatus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: испод ангулуса мандибу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img0043"/>
          <p:cNvPicPr/>
          <p:nvPr/>
        </p:nvPicPr>
        <p:blipFill>
          <a:blip r:embed="rId1"/>
          <a:stretch/>
        </p:blipFill>
        <p:spPr>
          <a:xfrm>
            <a:off x="0" y="0"/>
            <a:ext cx="5238720" cy="352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img0087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426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2008102307054226"/>
          <p:cNvPicPr/>
          <p:nvPr/>
        </p:nvPicPr>
        <p:blipFill>
          <a:blip r:embed="rId3"/>
          <a:stretch/>
        </p:blipFill>
        <p:spPr>
          <a:xfrm>
            <a:off x="457200" y="3733920"/>
            <a:ext cx="3781440" cy="283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ANd9GcQE9K-drXj1DU8_OSitZQw2_FqHex7vWi9ed-LNVejRw98mhPrq"/>
          <p:cNvPicPr/>
          <p:nvPr/>
        </p:nvPicPr>
        <p:blipFill>
          <a:blip r:embed="rId4"/>
          <a:stretch/>
        </p:blipFill>
        <p:spPr>
          <a:xfrm>
            <a:off x="4876920" y="43434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сорија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ине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pus vulg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matitis seborrho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6" descr="ANd9GcTksaRlZ7xqw-Q8GEZSdF1vuOIVBcO3oPfZWxrv01ooT9p5bKyk"/>
          <p:cNvPicPr/>
          <p:nvPr/>
        </p:nvPicPr>
        <p:blipFill>
          <a:blip r:embed="rId1"/>
          <a:stretch/>
        </p:blipFill>
        <p:spPr>
          <a:xfrm>
            <a:off x="3581280" y="1905120"/>
            <a:ext cx="2295720" cy="199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fp20080515p1415-f2"/>
          <p:cNvPicPr/>
          <p:nvPr/>
        </p:nvPicPr>
        <p:blipFill>
          <a:blip r:embed="rId2"/>
          <a:stretch/>
        </p:blipFill>
        <p:spPr>
          <a:xfrm>
            <a:off x="6019920" y="1905120"/>
            <a:ext cx="2571480" cy="20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Nd9GcQ-mRhxrKgOFZnowofDYDmez9E1IF-ytYayzMQBTpdPYmOBEY_1"/>
          <p:cNvPicPr/>
          <p:nvPr/>
        </p:nvPicPr>
        <p:blipFill>
          <a:blip r:embed="rId3"/>
          <a:stretch/>
        </p:blipFill>
        <p:spPr>
          <a:xfrm>
            <a:off x="3200400" y="41148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ANd9GcRqNuUyHVijDSUEZ9pNxOTrmnXk1qUL4R0SU22UbLlMbdW4BGyDBQ"/>
          <p:cNvPicPr/>
          <p:nvPr/>
        </p:nvPicPr>
        <p:blipFill>
          <a:blip r:embed="rId4"/>
          <a:stretch/>
        </p:blipFill>
        <p:spPr>
          <a:xfrm>
            <a:off x="6019920" y="41148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ок боле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ронични то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мисије спонтане или последица терап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цидиви у пролеће и ле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гноза: 5% (са променама на лицу), а  20% дисеминованих форми пређе у С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абораторијске анали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Анали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С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Леукоц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Тромбоц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А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Анти нативна ДНК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Резулта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Повишена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Снижени (1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Снижени (5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Позитивна (20-3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Негати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перкератоза ортокератотског тип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ширени остијуми фоликула испуњени кератинским чеп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55520" y="46080"/>
            <a:ext cx="1752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155520" y="46080"/>
            <a:ext cx="1752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155520" y="46080"/>
            <a:ext cx="1752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3" descr="230px-Lichen_simplex_chronicus_-_low_mag"/>
          <p:cNvPicPr/>
          <p:nvPr/>
        </p:nvPicPr>
        <p:blipFill>
          <a:blip r:embed="rId1"/>
          <a:stretch/>
        </p:blipFill>
        <p:spPr>
          <a:xfrm>
            <a:off x="5181480" y="2743200"/>
            <a:ext cx="3733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pathpedia.com/education/eatlas/histopathology/skin_and_adnexa/psoriasis/psoriasis-%5b2-sk030-2%5d.jpeg?Width=600&amp;Height=450&amp;Format=4"/>
          <p:cNvPicPr/>
          <p:nvPr/>
        </p:nvPicPr>
        <p:blipFill>
          <a:blip r:embed="rId1"/>
          <a:stretch/>
        </p:blipFill>
        <p:spPr>
          <a:xfrm>
            <a:off x="228600" y="2286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2514600" y="3267000"/>
            <a:ext cx="3736800" cy="327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http://upload.wikimedia.org/wikipedia/commons/2/20/Lichen_planus_intermed_mag.jpg"/>
          <p:cNvPicPr/>
          <p:nvPr/>
        </p:nvPicPr>
        <p:blipFill>
          <a:blip r:embed="rId3"/>
          <a:stretch/>
        </p:blipFill>
        <p:spPr>
          <a:xfrm>
            <a:off x="4383000" y="439560"/>
            <a:ext cx="42386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руга испитивањ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ИФ тес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upus band test)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 имуноглобулини и компоненте комплемента дуж зоне базалне мембра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55520" y="4608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8" descr="200px-Lupus_band_test"/>
          <p:cNvPicPr/>
          <p:nvPr/>
        </p:nvPicPr>
        <p:blipFill>
          <a:blip r:embed="rId1"/>
          <a:stretch/>
        </p:blipFill>
        <p:spPr>
          <a:xfrm>
            <a:off x="4419720" y="2286000"/>
            <a:ext cx="3504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Фотопротекција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о: антисоларне креме, КС м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а: КС (око 30 мг/дан), хлорохин (4 мг/кгТТ), хидроксихлорохин (око 6 мг/кгТ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subacutus cutaneus (LES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позната ети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огућ директан патогени ефекат антите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стоји генска предиспозиција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A DR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воцирајући фактори: сунце, леко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Група аутоимуних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позната ети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актори сред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Генетска предиспози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мунолошки поремећа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ри форме: хронични, субакутни и системски луп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а фотоекспонираним регија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2 форме болести: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АНУЛАРНИ-ПОЛИЦИКЛИЧНИ ОБЛИК и ПСОРИЈАЗИФОРМНИ ОБЛ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Фотосензитивност +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6" descr="ANd9GcTpx-8dufACuGErsYgOoXbCyGufFPZB5H4IB7pdfnA7-Qp0b5nO"/>
          <p:cNvPicPr/>
          <p:nvPr/>
        </p:nvPicPr>
        <p:blipFill>
          <a:blip r:embed="rId1"/>
          <a:stretch/>
        </p:blipFill>
        <p:spPr>
          <a:xfrm>
            <a:off x="5029200" y="2057400"/>
            <a:ext cx="1676520" cy="2162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ANd9GcS-ydrX-u3vlzkBLUWhiOahS3H2Yed4I4PZMygS8oy8ZEC146nn"/>
          <p:cNvPicPr/>
          <p:nvPr/>
        </p:nvPicPr>
        <p:blipFill>
          <a:blip r:embed="rId2"/>
          <a:stretch/>
        </p:blipFill>
        <p:spPr>
          <a:xfrm>
            <a:off x="6705720" y="1981080"/>
            <a:ext cx="2209680" cy="2629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lupus-sc-s"/>
          <p:cNvPicPr/>
          <p:nvPr/>
        </p:nvPicPr>
        <p:blipFill>
          <a:blip r:embed="rId3"/>
          <a:stretch/>
        </p:blipFill>
        <p:spPr>
          <a:xfrm>
            <a:off x="5105520" y="4191120"/>
            <a:ext cx="213336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bbmapAsset?appID=MDC&amp;isbn=978-1-4377-0314-6&amp;eid=4-u1"/>
          <p:cNvPicPr/>
          <p:nvPr/>
        </p:nvPicPr>
        <p:blipFill>
          <a:blip r:embed="rId4"/>
          <a:stretch/>
        </p:blipFill>
        <p:spPr>
          <a:xfrm>
            <a:off x="7238880" y="457200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мене на остављају ожиљ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½ пацијената с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C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лази у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абораторија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 (+70%), Anti Ro(SS)A (60%), Anti La(SS)B (4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гија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~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EC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, али без изражених кератинских чеп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Фотопротек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пикални и општи К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нтималар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тиноид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systemicus (L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стемско аутоимуно обољењ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тиологиј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енетска предиспозициј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LA B8, DR3, DQw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воцирајући фактор:УВА и УВБ (7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олошки поремећај:хиперреактивност Т и Б лимфоцита и неадекватна регулација те хиперреактив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90% пацијената су жене генеративног доб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М=7-9: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Мултисистемско обољење: кожа, слузокожа усне дупље, унутрашњи орг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жа: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terfly rush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” или маларни ерит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LE-001"/>
          <p:cNvPicPr/>
          <p:nvPr/>
        </p:nvPicPr>
        <p:blipFill>
          <a:blip r:embed="rId1"/>
          <a:stretch/>
        </p:blipFill>
        <p:spPr>
          <a:xfrm>
            <a:off x="4114800" y="2584440"/>
            <a:ext cx="46483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Могуће су промене нали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C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 и/и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Еритемо-ливидне макуле у пределу деколте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алмарни и плантарни ерит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 остављају ожиља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7" descr="ANd9GcRV7719jRXl_W-tRLggqZk5Y9llCS9wF8LSIpaBp_iUcPxp9S56"/>
          <p:cNvPicPr/>
          <p:nvPr/>
        </p:nvPicPr>
        <p:blipFill>
          <a:blip r:embed="rId1"/>
          <a:stretch/>
        </p:blipFill>
        <p:spPr>
          <a:xfrm>
            <a:off x="5029200" y="19810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ANd9GcQGG6-OOMA2nCBDmZFviXAh_g1_OhH6b38xUIRYs54JnJtP47AR"/>
          <p:cNvPicPr/>
          <p:nvPr/>
        </p:nvPicPr>
        <p:blipFill>
          <a:blip r:embed="rId2"/>
          <a:stretch/>
        </p:blipFill>
        <p:spPr>
          <a:xfrm>
            <a:off x="5562720" y="4419720"/>
            <a:ext cx="32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огући су 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ynaud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 феном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ериунгвални еритем са телангиектазиј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vedo reticular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2600" y="20174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9" descr="ANd9GcQHzXw903h6DpNrMH8dJTwi6fIIKDggSc_CURAYqU-kQ440udNV"/>
          <p:cNvPicPr/>
          <p:nvPr/>
        </p:nvPicPr>
        <p:blipFill>
          <a:blip r:embed="rId1"/>
          <a:stretch/>
        </p:blipFill>
        <p:spPr>
          <a:xfrm>
            <a:off x="1219320" y="1981080"/>
            <a:ext cx="373356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ANd9GcRYGCLc6hFxhc4T06WSl3r389PCzsBVGtTcZS1JJZggplkW92rasw"/>
          <p:cNvPicPr/>
          <p:nvPr/>
        </p:nvPicPr>
        <p:blipFill>
          <a:blip r:embed="rId2"/>
          <a:stretch/>
        </p:blipFill>
        <p:spPr>
          <a:xfrm>
            <a:off x="5105520" y="4114800"/>
            <a:ext cx="3733560" cy="2438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ANd9GcQw2iniT3gzqNglRW7kHlYIYu83SeRFD2temV4EACusklZbpbh3"/>
          <p:cNvPicPr/>
          <p:nvPr/>
        </p:nvPicPr>
        <p:blipFill>
          <a:blip r:embed="rId3"/>
          <a:stretch/>
        </p:blipFill>
        <p:spPr>
          <a:xfrm>
            <a:off x="5105520" y="2057400"/>
            <a:ext cx="380988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dermnet_rf_photo_of_lupus_rash_on_nails"/>
          <p:cNvPicPr/>
          <p:nvPr/>
        </p:nvPicPr>
        <p:blipFill>
          <a:blip r:embed="rId4"/>
          <a:stretch/>
        </p:blipFill>
        <p:spPr>
          <a:xfrm>
            <a:off x="1143000" y="41911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55520" y="46080"/>
            <a:ext cx="268596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21932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15552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21932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5" descr="1-s2"/>
          <p:cNvPicPr/>
          <p:nvPr/>
        </p:nvPicPr>
        <p:blipFill>
          <a:blip r:embed="rId1"/>
          <a:stretch/>
        </p:blipFill>
        <p:spPr>
          <a:xfrm>
            <a:off x="0" y="1771560"/>
            <a:ext cx="3819600" cy="508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md_99-12-0028"/>
          <p:cNvPicPr/>
          <p:nvPr/>
        </p:nvPicPr>
        <p:blipFill>
          <a:blip r:embed="rId2"/>
          <a:stretch/>
        </p:blipFill>
        <p:spPr>
          <a:xfrm>
            <a:off x="3905280" y="22860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CHRONIC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iscoides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(синони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д дејством УВБ долази до ослобађања антигена (пореклом из једра епидермалних ћелија) који реагују се Т лимфоцитима због чега долази до оштећења ЗБ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капилицијуму- телогени ефлувију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усној дупљи безболна улцер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55520" y="46080"/>
            <a:ext cx="1590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1" descr="ANd9GcT37yI2Z2gqusxx6ZuYDpwmVVP_AISzbv0H3cEo6UUNmnuYwOMy"/>
          <p:cNvPicPr/>
          <p:nvPr/>
        </p:nvPicPr>
        <p:blipFill>
          <a:blip r:embed="rId1"/>
          <a:stretch/>
        </p:blipFill>
        <p:spPr>
          <a:xfrm>
            <a:off x="5715000" y="1143000"/>
            <a:ext cx="3200400" cy="22096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3"/>
          <p:cNvSpPr/>
          <p:nvPr/>
        </p:nvSpPr>
        <p:spPr>
          <a:xfrm>
            <a:off x="15552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9" descr="md_00-06-0042"/>
          <p:cNvPicPr/>
          <p:nvPr/>
        </p:nvPicPr>
        <p:blipFill>
          <a:blip r:embed="rId2"/>
          <a:stretch/>
        </p:blipFill>
        <p:spPr>
          <a:xfrm>
            <a:off x="5133960" y="3429000"/>
            <a:ext cx="4010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стемске манифестациј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Малаксалост, температура, болови у зглобови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Органи: срце, бубрези, ЦНС, зглобов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7" descr="17134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АРА критеријуми ((</a:t>
            </a:r>
            <a:r>
              <a:rPr b="1" lang="sr-CS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+)=</a:t>
            </a:r>
            <a:r>
              <a:rPr b="1" lang="sr-CS" sz="2400" spc="-1" strike="noStrike">
                <a:solidFill>
                  <a:srgbClr val="ff0000"/>
                </a:solidFill>
                <a:latin typeface="Tahoma"/>
              </a:rPr>
              <a:t>СЛЕ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отосензитивно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2. Маларни ерит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3. Промене тип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EC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 и/ил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4. Улцерације у усти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5. Неерозивни артритис бар 2 периферна згл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6. Серозитис (плеуритис или перикардити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7. Обољење бубрега (протеинуриј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8. ЦНС (конвулзије или психоз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9. Хематолошки поремећаји (анемија или леуко, лимфо, тромбоцитопен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10. Имунолошки поремећаји (ЛЕ ћелије у периферној крви, ант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тивна, анти-см-антитела)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11. АНА позити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ериоди ремисија и егзацерб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цидиви због стреса, УВ, инфек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гноза зависи од захваћености унутрашњих орг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аборатор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ред АНА, анти-нативних, анти см ат, могу бити присутна и друга антите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 повиш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Ф повишен, снижен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3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ишени 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БТ позитиван на експонираној (30-50%) и на неекспонираној кожи (10-3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7" descr="Rosacea-Treatment-before-374539"/>
          <p:cNvPicPr/>
          <p:nvPr/>
        </p:nvPicPr>
        <p:blipFill>
          <a:blip r:embed="rId1"/>
          <a:stretch/>
        </p:blipFill>
        <p:spPr>
          <a:xfrm>
            <a:off x="609480" y="1981080"/>
            <a:ext cx="4343400" cy="4114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ANd9GcRH0mAepBg3g1WXWh91N_UYCCV0BSwHs-pzPgd2rYrEwqoSN9Hq"/>
          <p:cNvPicPr/>
          <p:nvPr/>
        </p:nvPicPr>
        <p:blipFill>
          <a:blip r:embed="rId2"/>
          <a:stretch/>
        </p:blipFill>
        <p:spPr>
          <a:xfrm>
            <a:off x="51814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мене на кожи: фотопротекција, антималарици, општа К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жа+ унутрашњи органи: конвенционалан или пулс високим дозама КС, имуносупресиви, плазмафере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neonat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ANd9GcRu9ZtjkyIjWLwOpNd8aMQCPCsONBoASac_iRy6CPiYrdi2lu9iew"/>
          <p:cNvPicPr/>
          <p:nvPr/>
        </p:nvPicPr>
        <p:blipFill>
          <a:blip r:embed="rId1"/>
          <a:stretch/>
        </p:blipFill>
        <p:spPr>
          <a:xfrm>
            <a:off x="838080" y="2286000"/>
            <a:ext cx="3810240" cy="3581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ANd9GcSd8OHkXmEkEovM67qOCqJY9CuHuy8FzIX3HVMoSQpvz3kbHjTp"/>
          <p:cNvPicPr/>
          <p:nvPr/>
        </p:nvPicPr>
        <p:blipFill>
          <a:blip r:embed="rId2"/>
          <a:stretch/>
        </p:blipFill>
        <p:spPr>
          <a:xfrm>
            <a:off x="4648320" y="2286000"/>
            <a:ext cx="3962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panniculitis (Lupus profundu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82600" y="20174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7" descr="ANd9GcTCQCfRoDgFLZc7EmvMqGN1eG-VsCeL4OW0afA9rxMSOhxs1jvcBQ"/>
          <p:cNvPicPr/>
          <p:nvPr/>
        </p:nvPicPr>
        <p:blipFill>
          <a:blip r:embed="rId1"/>
          <a:stretch/>
        </p:blipFill>
        <p:spPr>
          <a:xfrm>
            <a:off x="1523880" y="190512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ANd9GcQuThN1ETDNldzZHHSoeVYRqehvffSodNZROkup1fQFSnjWGJKz"/>
          <p:cNvPicPr/>
          <p:nvPr/>
        </p:nvPicPr>
        <p:blipFill>
          <a:blip r:embed="rId2"/>
          <a:stretch/>
        </p:blipFill>
        <p:spPr>
          <a:xfrm>
            <a:off x="1447920" y="4191120"/>
            <a:ext cx="3124080" cy="1904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ANd9GcT6jVxXfXRsFUd3-DUy3daDr4fj_O8N6kp_A6NG9eLTOAu1ZLMQ"/>
          <p:cNvPicPr/>
          <p:nvPr/>
        </p:nvPicPr>
        <p:blipFill>
          <a:blip r:embed="rId3"/>
          <a:stretch/>
        </p:blipFill>
        <p:spPr>
          <a:xfrm>
            <a:off x="5410080" y="2133720"/>
            <a:ext cx="32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ANd9GcSRhaDMIadwp0a4xsMmF4BeKz1UMVBdk4jJ1hqo4Sxd8NnR4s9sAQ"/>
          <p:cNvPicPr/>
          <p:nvPr/>
        </p:nvPicPr>
        <p:blipFill>
          <a:blip r:embed="rId4"/>
          <a:stretch/>
        </p:blipFill>
        <p:spPr>
          <a:xfrm>
            <a:off x="5638680" y="4191120"/>
            <a:ext cx="2895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PUS ERYTHEMATODES CHRONIC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М=2: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Најчешће око 4 деценије жив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Предилекциона места: фотоекспониране рег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2 клиничке форме: локализована и дисеминов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трофије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хваћени епидерм и дер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дставља смањење обима тки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шки: стањен епидерм, у дерму разређена колагена влакна , редукована еластична влакна, фоликули и кожне жлезде недостај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и: кожа се лако бора, нееластична је и фрагил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ae distensa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изиолошка (пубертет и трудноћа) и патолошка (Кушинг, терапија кортико-терапијом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9" descr="100_6031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ythema migrans-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3817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семинована инфек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63800" cy="3962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91120" y="2252520"/>
            <a:ext cx="415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rodermatitis chronica atrophic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рећи стадијум лајмске боле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сле инфламаторне фазе- фаза атроф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а екстензорним странама екстремитета и на зглобови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анка, наборана кожа са проминентним крвним судови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6" descr="CH204FG006"/>
          <p:cNvPicPr/>
          <p:nvPr/>
        </p:nvPicPr>
        <p:blipFill>
          <a:blip r:embed="rId1"/>
          <a:stretch/>
        </p:blipFill>
        <p:spPr>
          <a:xfrm>
            <a:off x="5867280" y="2017800"/>
            <a:ext cx="2365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rc_mi" descr="http://ars.els-cdn.com/content/image/1-s2.0-S0190962204007753-gr3.jpg"/>
          <p:cNvPicPr/>
          <p:nvPr/>
        </p:nvPicPr>
        <p:blipFill>
          <a:blip r:embed="rId1"/>
          <a:stretch/>
        </p:blipFill>
        <p:spPr>
          <a:xfrm>
            <a:off x="1676520" y="1905120"/>
            <a:ext cx="499104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строфије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следни или стечени поремећај у структури и функцији колагених и еластичних влак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рме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IS LAXA, EHLERS-DANLOS Sy, PSEUDOXANTHOMA ELASTIC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9" descr="CH156FG009"/>
          <p:cNvPicPr/>
          <p:nvPr/>
        </p:nvPicPr>
        <p:blipFill>
          <a:blip r:embed="rId1"/>
          <a:stretch/>
        </p:blipFill>
        <p:spPr>
          <a:xfrm>
            <a:off x="1447920" y="228600"/>
            <a:ext cx="3047760" cy="3693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ANd9GcQ0WjJ0LDg1zJMEbuPLtXyvdKtDz52RApff6foK4au3Xe63JAVb"/>
          <p:cNvPicPr/>
          <p:nvPr/>
        </p:nvPicPr>
        <p:blipFill>
          <a:blip r:embed="rId2"/>
          <a:stretch/>
        </p:blipFill>
        <p:spPr>
          <a:xfrm>
            <a:off x="5029200" y="22860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ANd9GcShfi4v-pHwWCK8KvxasFkyJYikdqH7EQsviGy1VCzkASNnmgai"/>
          <p:cNvPicPr/>
          <p:nvPr/>
        </p:nvPicPr>
        <p:blipFill>
          <a:blip r:embed="rId3"/>
          <a:stretch/>
        </p:blipFill>
        <p:spPr>
          <a:xfrm>
            <a:off x="1066680" y="4419720"/>
            <a:ext cx="2657520" cy="1981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IndianDermatolOnlineJ_2012_3_1_70_93487_u1"/>
          <p:cNvPicPr/>
          <p:nvPr/>
        </p:nvPicPr>
        <p:blipFill>
          <a:blip r:embed="rId4"/>
          <a:stretch/>
        </p:blipFill>
        <p:spPr>
          <a:xfrm>
            <a:off x="4114800" y="3502080"/>
            <a:ext cx="46576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CH156FG007"/>
          <p:cNvPicPr/>
          <p:nvPr/>
        </p:nvPicPr>
        <p:blipFill>
          <a:blip r:embed="rId1"/>
          <a:stretch/>
        </p:blipFill>
        <p:spPr>
          <a:xfrm>
            <a:off x="1523880" y="888840"/>
            <a:ext cx="609624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eds1"/>
          <p:cNvPicPr/>
          <p:nvPr/>
        </p:nvPicPr>
        <p:blipFill>
          <a:blip r:embed="rId1"/>
          <a:stretch/>
        </p:blipFill>
        <p:spPr>
          <a:xfrm>
            <a:off x="1219320" y="0"/>
            <a:ext cx="4800600" cy="35146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7"/>
          <p:cNvSpPr/>
          <p:nvPr/>
        </p:nvSpPr>
        <p:spPr>
          <a:xfrm>
            <a:off x="3276720" y="1752480"/>
            <a:ext cx="255276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9" descr="eds2"/>
          <p:cNvPicPr/>
          <p:nvPr/>
        </p:nvPicPr>
        <p:blipFill>
          <a:blip r:embed="rId2"/>
          <a:stretch/>
        </p:blipFill>
        <p:spPr>
          <a:xfrm>
            <a:off x="228600" y="3486240"/>
            <a:ext cx="4800600" cy="3371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ANd9GcTt9XOLqE7eJPtxyJj64GrW3uLCpKgXqTftvIvNLpDeLy03BK_G"/>
          <p:cNvPicPr/>
          <p:nvPr/>
        </p:nvPicPr>
        <p:blipFill>
          <a:blip r:embed="rId3"/>
          <a:stretch/>
        </p:blipFill>
        <p:spPr>
          <a:xfrm>
            <a:off x="5334120" y="3962520"/>
            <a:ext cx="260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Еритематоз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плоч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са адхерентном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сквам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ечник 0.5 до више ц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блик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ис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РАНИ тријас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ерит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ат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ф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ес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вамациј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10" descr="plaque-le2-s"/>
          <p:cNvPicPr/>
          <p:nvPr/>
        </p:nvPicPr>
        <p:blipFill>
          <a:blip r:embed="rId1"/>
          <a:stretch/>
        </p:blipFill>
        <p:spPr>
          <a:xfrm>
            <a:off x="5181480" y="198108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le1-s"/>
          <p:cNvPicPr/>
          <p:nvPr/>
        </p:nvPicPr>
        <p:blipFill>
          <a:blip r:embed="rId2"/>
          <a:stretch/>
        </p:blipFill>
        <p:spPr>
          <a:xfrm>
            <a:off x="5181480" y="380988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CH101FG003"/>
          <p:cNvPicPr/>
          <p:nvPr/>
        </p:nvPicPr>
        <p:blipFill>
          <a:blip r:embed="rId1"/>
          <a:stretch/>
        </p:blipFill>
        <p:spPr>
          <a:xfrm>
            <a:off x="1905120" y="1828800"/>
            <a:ext cx="5181480" cy="40766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лоиди-хипертрофије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лоиди-хипертрофије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CH101FG004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tis rhomboidalis nuche et elephant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693960" cy="2341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28227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2" name="Picture 2" descr="http://news.16099.com/pic/30/12/17/24/b/06301.jpg"/>
          <p:cNvPicPr/>
          <p:nvPr/>
        </p:nvPicPr>
        <p:blipFill>
          <a:blip r:embed="rId1"/>
          <a:stretch/>
        </p:blipFill>
        <p:spPr>
          <a:xfrm>
            <a:off x="685800" y="2209680"/>
            <a:ext cx="360036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dermaamin.com/site/images/clinical-pic/L/lupus_erythematosus_chronicus_verrucous/lupus_erythematosus_chronicus_verrucous12.jpg"/>
          <p:cNvPicPr/>
          <p:nvPr/>
        </p:nvPicPr>
        <p:blipFill>
          <a:blip r:embed="rId2"/>
          <a:stretch/>
        </p:blipFill>
        <p:spPr>
          <a:xfrm>
            <a:off x="4876920" y="1981080"/>
            <a:ext cx="31906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ајањем болести развија с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КАСНИ трија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хипопигментација, телангиектазије и склероза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центр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-хиперпигментован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у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7" descr="ANd9GcT1tM1P8hblWK0cm1zGyEgFpzBYMRl_GwccA2VHKH3UE7uwyvT9"/>
          <p:cNvPicPr/>
          <p:nvPr/>
        </p:nvPicPr>
        <p:blipFill>
          <a:blip r:embed="rId1"/>
          <a:stretch/>
        </p:blipFill>
        <p:spPr>
          <a:xfrm>
            <a:off x="5410080" y="2057400"/>
            <a:ext cx="3200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globalskinatlas.com/upload/323_3.jpg"/>
          <p:cNvPicPr/>
          <p:nvPr/>
        </p:nvPicPr>
        <p:blipFill>
          <a:blip r:embed="rId1"/>
          <a:stretch/>
        </p:blipFill>
        <p:spPr>
          <a:xfrm>
            <a:off x="2590920" y="38088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" name="Picture 12" descr="discoidlupus"/>
          <p:cNvPicPr/>
          <p:nvPr/>
        </p:nvPicPr>
        <p:blipFill>
          <a:blip r:embed="rId1"/>
          <a:stretch/>
        </p:blipFill>
        <p:spPr>
          <a:xfrm>
            <a:off x="5029200" y="1600200"/>
            <a:ext cx="411480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discoid-lesion2"/>
          <p:cNvPicPr/>
          <p:nvPr/>
        </p:nvPicPr>
        <p:blipFill>
          <a:blip r:embed="rId2"/>
          <a:stretch/>
        </p:blipFill>
        <p:spPr>
          <a:xfrm>
            <a:off x="5029200" y="40384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2"/>
          <p:cNvSpPr/>
          <p:nvPr/>
        </p:nvSpPr>
        <p:spPr>
          <a:xfrm>
            <a:off x="155520" y="4608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24" descr="sldr160"/>
          <p:cNvPicPr/>
          <p:nvPr/>
        </p:nvPicPr>
        <p:blipFill>
          <a:blip r:embed="rId3"/>
          <a:stretch/>
        </p:blipFill>
        <p:spPr>
          <a:xfrm>
            <a:off x="0" y="2362320"/>
            <a:ext cx="49910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41:38Z</dcterms:created>
  <dc:creator>XP</dc:creator>
  <dc:description/>
  <dc:language>en-US</dc:language>
  <cp:lastModifiedBy>Nebojša Krstić</cp:lastModifiedBy>
  <dcterms:modified xsi:type="dcterms:W3CDTF">2015-02-11T09:27:06Z</dcterms:modified>
  <cp:revision>24</cp:revision>
  <dc:subject/>
  <dc:title>Slide 1</dc:title>
</cp:coreProperties>
</file>